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638-C275-46DB-A8F5-BDA1ADA6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6CB-E64D-482D-9756-D7DA0CA3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287-94F5-4961-972C-E2EEFF02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A0A-B85A-4CA4-B861-AD13230C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054-77D9-43D1-9460-80F7606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779-BCC2-42DE-956C-5F9674D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7A0-0443-48DD-979B-BEC976A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3ED-6BCC-4E35-AEA0-C5E7043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FC8-A113-4C23-94E2-DE2B08C9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C17-3874-4BF6-BBDC-F24812F4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D1A-78A1-4314-83E1-E9404E3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A2D-8FE0-4034-8173-699DBEB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C89-B267-4460-801E-75792B7DF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0" y="0"/>
            <a:ext cx="2195640" cy="2133720"/>
            <a:chOff x="0" y="0"/>
            <a:chExt cx="2195640" cy="2133720"/>
          </a:xfrm>
        </p:grpSpPr>
        <p:pic>
          <p:nvPicPr>
            <p:cNvPr id="45" name="Picture 12" descr="FLOWER2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956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13"/>
            <p:cNvSpPr txBox="1"/>
            <p:nvPr/>
          </p:nvSpPr>
          <p:spPr>
            <a:xfrm>
              <a:off x="772560" y="1149840"/>
              <a:ext cx="6786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WordArt 14"/>
            <p:cNvSpPr txBox="1"/>
            <p:nvPr/>
          </p:nvSpPr>
          <p:spPr>
            <a:xfrm>
              <a:off x="769680" y="723600"/>
              <a:ext cx="68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0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803_1071_4814_vnvv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storm</cp:lastModifiedBy>
  <dcterms:modified xsi:type="dcterms:W3CDTF">2010-04-03T04:42:11Z</dcterms:modified>
  <cp:revision>9</cp:revision>
  <dc:subject/>
  <dc:title>ЗАГАДКИ  ПРО ТРАНСПОРТ</dc:title>
</cp:coreProperties>
</file>